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5BC6-EC37-47E8-802D-38FEC00B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90DE-87E6-44B1-A067-96674B10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323-5D6E-4A32-96EC-CFF3F7AD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049-967D-4895-A132-4DEC36CA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05EB-DD13-4A4F-83C7-D837071C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19E5-1E32-4C51-8E95-63664A93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5797-3AF2-46C9-83DA-1DEEDF71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A4B1-BE9C-46DD-B480-6F0E6910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84B7-56FB-4DCD-8B20-8E24FEBC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1B48-2D1E-477D-A210-B4230F12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AB64-11E1-42F4-81F7-2A8C1ADD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4B7D-193C-4980-820B-53B00212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4024-EDDD-4E70-997F-96D5A786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5409-DB01-4335-AF25-E8705F10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4896-EBEA-434A-BECF-677A329E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1BF2-C44E-4648-9065-1919ABE9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6916-0ED2-48B4-89C1-78521C652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D91-F6B4-4D08-BFDF-A82C49CE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2A12-A6EE-4F2B-B28E-7012C284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54F9-C501-4DAD-8809-43B56EF0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290-596D-4BD8-9BDD-445D503C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5D3-B550-4746-8E94-4440C1DA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AEB-D765-4045-B751-03DA8B7D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C0A4-6860-4D6C-81FE-FDC74A65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C24F-BD92-42DF-830E-3114989A2BC6}" type="slidenum">
              <a:rPr b="0" lang="en-C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A6B7-C2D9-4C55-BCC7-80716B2B217A}" type="slidenum">
              <a:rPr b="0" lang="en-C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5.statcan.gc.ca/cansim/a05?lang=eng&amp;id=1024505&amp;paSer=&amp;pattern=102-4505&amp;stByVal=1&amp;csid=" TargetMode="External"/><Relationship Id="rId2" Type="http://schemas.openxmlformats.org/officeDocument/2006/relationships/hyperlink" Target="http://www.statcan.gc.ca/bsolc/english/bsolc?catno=84F0210X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Unit Four – Parent-Child Relationships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Garamond"/>
              </a:rPr>
              <a:t>Chapter Nine,</a:t>
            </a: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 Ten &amp; Eleven – Parenthood Today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HS 4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als and Families in a Diverse Socie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24160" y="2476440"/>
            <a:ext cx="4419720" cy="1981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ecision to Have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62240" y="5067360"/>
            <a:ext cx="27432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760" y="4305240"/>
            <a:ext cx="27432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stems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760" y="1333440"/>
            <a:ext cx="27432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actio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34040" y="1257480"/>
            <a:ext cx="27432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cial Ex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62240" y="419040"/>
            <a:ext cx="27432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emin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58080" y="4305240"/>
            <a:ext cx="27432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apter 9: Parenthood Toda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know the Canadian </a:t>
            </a:r>
            <a:r>
              <a:rPr b="0" lang="en-US" sz="3000" spc="-1" strike="noStrike">
                <a:solidFill>
                  <a:srgbClr val="3b812f"/>
                </a:solidFill>
                <a:latin typeface="Arial"/>
              </a:rPr>
              <a:t>trend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follow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ge of first-time par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erage # of children (F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en pregnancy r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ental roles, styles and expec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1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06480" y="769680"/>
            <a:ext cx="5531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s and total fertility rate, by province and territory </a:t>
            </a:r>
            <a:br>
              <a:rPr sz="1800"/>
            </a:br>
            <a:r>
              <a:rPr b="0" lang="en-US" sz="1000" spc="-1" strike="noStrike">
                <a:solidFill>
                  <a:srgbClr val="cc0000"/>
                </a:solidFill>
                <a:latin typeface="Courier New"/>
                <a:ea typeface="Courier New"/>
              </a:rPr>
              <a:t>(Fertility rate)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806480" y="1447920"/>
          <a:ext cx="5585040" cy="4433760"/>
        </p:xfrm>
        <a:graphic>
          <a:graphicData uri="http://schemas.openxmlformats.org/drawingml/2006/table">
            <a:tbl>
              <a:tblPr/>
              <a:tblGrid>
                <a:gridCol w="2046240"/>
                <a:gridCol w="561960"/>
                <a:gridCol w="561960"/>
                <a:gridCol w="562320"/>
                <a:gridCol w="561960"/>
                <a:gridCol w="12906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ertilit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foundland and Labr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ce Edward Is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a Scot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Brunswi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eb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ito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skatchew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er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itish Colu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uk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thwest Territo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nav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e1e6e8"/>
                      </a:solidFill>
                    </a:lnL>
                    <a:lnR w="720">
                      <a:solidFill>
                        <a:srgbClr val="e1e6e8"/>
                      </a:solidFill>
                    </a:lnR>
                    <a:lnT w="720">
                      <a:solidFill>
                        <a:srgbClr val="dddddd"/>
                      </a:solidFill>
                    </a:lnT>
                    <a:lnB w="720">
                      <a:solidFill>
                        <a:srgbClr val="dddddd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50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e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otal fertility rate is the average number of children per woman.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tatistics Canada, CANSIM, table </a:t>
                      </a:r>
                      <a:r>
                        <a:rPr b="0" lang="en-US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102-4505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and Catalogue no. </a:t>
                      </a:r>
                      <a:r>
                        <a:rPr b="0" lang="en-US" sz="1000" spc="-1" strike="noStrike" u="sng">
                          <a:solidFill>
                            <a:srgbClr val="996600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84F0210X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.</a:t>
                      </a:r>
                      <a:br>
                        <a:rPr sz="1000"/>
                      </a:b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Last modified: 2011-04-27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dddddd"/>
                      </a:solidFill>
                    </a:lnT>
                    <a:lnB>
                      <a:noFill/>
                    </a:lnB>
                    <a:solidFill>
                      <a:srgbClr val="e6ec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366920" y="1461960"/>
            <a:ext cx="6410160" cy="3934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6633"/>
                </a:solidFill>
                <a:latin typeface="Garamond"/>
              </a:rPr>
              <a:t>Total Fertility Rate</a:t>
            </a:r>
            <a:br>
              <a:rPr sz="2500"/>
            </a:br>
            <a:r>
              <a:rPr b="0" lang="en-CA" sz="2500" spc="-1" strike="noStrike">
                <a:solidFill>
                  <a:srgbClr val="006633"/>
                </a:solidFill>
                <a:latin typeface="Garamond"/>
              </a:rPr>
              <a:t> Canada: 1926-2006</a:t>
            </a:r>
            <a:br>
              <a:rPr sz="2500"/>
            </a:br>
            <a:r>
              <a:rPr b="0" lang="en-CA" sz="1300" spc="-1" strike="noStrike">
                <a:solidFill>
                  <a:srgbClr val="006633"/>
                </a:solidFill>
                <a:latin typeface="Garamond"/>
              </a:rPr>
              <a:t>Source: Statistics Canada, Demography Division</a:t>
            </a:r>
            <a:endParaRPr b="0" lang="en-US" sz="13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6019920" cy="4724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6633"/>
                </a:solidFill>
                <a:latin typeface="Garamond"/>
              </a:rPr>
              <a:t>Source: Human Resources Canada, 2003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447920" y="1019160"/>
            <a:ext cx="586728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6633"/>
                </a:solidFill>
                <a:latin typeface="Garamond"/>
              </a:rPr>
              <a:t>Source: Labour Force Surveys – Statistics Canada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61722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6633"/>
                </a:solidFill>
                <a:latin typeface="Garamond"/>
              </a:rPr>
              <a:t>Source: Human Resources Canada, 2010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1600" y="1392120"/>
            <a:ext cx="678168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6633"/>
                </a:solidFill>
                <a:latin typeface="Garamond"/>
              </a:rPr>
              <a:t>Teen Pregnancy Rates, Canada and United States (1974 – 1997)</a:t>
            </a:r>
            <a:br>
              <a:rPr sz="2400"/>
            </a:br>
            <a:br>
              <a:rPr sz="1700"/>
            </a:br>
            <a:r>
              <a:rPr b="0" lang="en-CA" sz="1700" spc="-1" strike="noStrike">
                <a:solidFill>
                  <a:srgbClr val="006633"/>
                </a:solidFill>
                <a:latin typeface="Garamond"/>
              </a:rPr>
              <a:t>Source: Health Reports, Vol. 12, No. 1</a:t>
            </a:r>
            <a:br>
              <a:rPr sz="1700"/>
            </a:br>
            <a:r>
              <a:rPr b="0" lang="en-CA" sz="1700" spc="-1" strike="noStrike">
                <a:solidFill>
                  <a:srgbClr val="006633"/>
                </a:solidFill>
                <a:latin typeface="Garamond"/>
              </a:rPr>
              <a:t>Statistics Canada, Catalogue 82-003</a:t>
            </a:r>
            <a:endParaRPr b="0" lang="en-US" sz="17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02920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Factors for Would-Be Parents to Consider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etal and social val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nomic conditions and personal fin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elings about child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sychological read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dise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sure from peers and family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10280" y="3200400"/>
            <a:ext cx="10670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Unit 4 Terms</a:t>
            </a: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Biological Cl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the limits on behaviour determined by physical aging (the length of time a female is able to conce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Delayed Parenthoo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when couples put off having children until they are in their 30’s &amp; 40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Family Wag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economic concept that a man’s income should provide adequate money to support family – used to justify paying a female less than a m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86400" y="2055960"/>
            <a:ext cx="274320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loway, Maureen, Holloway,G., Witte, J. (2003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dividuals and Families in a Diverse Society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Graw-Hill Ryerson., Toro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Unit 4 Term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Female Infantic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killing of female children immediately after bir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5.   Fertility 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the average number of children born alive during a woman’s childbearing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Genetic Disea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hereditary diseases such as diabetes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Infant Mortality R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number of deaths of infants less than one year of age per 1000 birth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10080" y="2055960"/>
            <a:ext cx="30481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Unit 4 Terms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   </a:t>
            </a:r>
            <a:r>
              <a:rPr b="1" lang="en-US" sz="2200" spc="-1" strike="noStrike">
                <a:solidFill>
                  <a:srgbClr val="3b812f"/>
                </a:solidFill>
                <a:latin typeface="Arial"/>
              </a:rPr>
              <a:t>Inferti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unable to produ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.   </a:t>
            </a:r>
            <a:r>
              <a:rPr b="1" lang="en-US" sz="2200" spc="-1" strike="noStrike">
                <a:solidFill>
                  <a:srgbClr val="3b812f"/>
                </a:solidFill>
                <a:latin typeface="Arial"/>
              </a:rPr>
              <a:t>Lineag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ancest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en-US" sz="2200" spc="-1" strike="noStrike">
                <a:solidFill>
                  <a:srgbClr val="3b812f"/>
                </a:solidFill>
                <a:latin typeface="Arial"/>
              </a:rPr>
              <a:t>Sterilizatio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causing permanent infertility by removing or disabling reproductive orga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  </a:t>
            </a:r>
            <a:r>
              <a:rPr b="1" lang="en-US" sz="2200" spc="-1" strike="noStrike">
                <a:solidFill>
                  <a:srgbClr val="3b812f"/>
                </a:solidFill>
                <a:latin typeface="Arial"/>
              </a:rPr>
              <a:t>Voluntary Childlessnes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– deliberately decide not to become paren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857840" y="1600200"/>
            <a:ext cx="36180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Unit 4 Term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  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Attach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behaviours that meet the need of an infant to maintain or attain proximity &amp; protection with a pa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.  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Authoritarian Paren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parental control and the use of reward &amp; punish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.  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Authoritative Paren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warmth, support, acceptance &amp; indirect positive control of child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.  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Constructive Paren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conflict that is managed in a non-aggressive &amp; productive man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57880" y="2055960"/>
            <a:ext cx="31766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Unit 4 Term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6.    </a:t>
            </a:r>
            <a:r>
              <a:rPr b="1" lang="en-US" sz="1700" spc="-1" strike="noStrike">
                <a:solidFill>
                  <a:srgbClr val="3b812f"/>
                </a:solidFill>
                <a:latin typeface="Arial"/>
              </a:rPr>
              <a:t>Destructive Parenting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conflicts that are managed in a hostile &amp; angry manne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7.   </a:t>
            </a:r>
            <a:r>
              <a:rPr b="1" lang="en-US" sz="1700" spc="-1" strike="noStrike">
                <a:solidFill>
                  <a:srgbClr val="3b812f"/>
                </a:solidFill>
                <a:latin typeface="Arial"/>
              </a:rPr>
              <a:t>Insecurely Attached Infant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babies with a limited degree of attachment to their primary caregive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8.    </a:t>
            </a:r>
            <a:r>
              <a:rPr b="1" lang="en-US" sz="1700" spc="-1" strike="noStrike">
                <a:solidFill>
                  <a:srgbClr val="3b812f"/>
                </a:solidFill>
                <a:latin typeface="Arial"/>
              </a:rPr>
              <a:t>Intact Famil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family in which both parents are in their first marriage &amp; have biological or adopted childr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.    </a:t>
            </a:r>
            <a:r>
              <a:rPr b="1" lang="en-US" sz="1700" spc="-1" strike="noStrike">
                <a:solidFill>
                  <a:srgbClr val="3b812f"/>
                </a:solidFill>
                <a:latin typeface="Arial"/>
              </a:rPr>
              <a:t>Permissive Parenting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the children have greater power than parents in family situation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4120" y="2055960"/>
            <a:ext cx="327636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5" dur="1" fill="hold"/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Unit 4 Terms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.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Securely Attached Infa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babies with a high degree of attachment to their primary caregi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1.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Child Abu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when a child is abused by their caregi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.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Child Negle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covers wide range of parental behaviours; failure to provide necessities of life to adequate supervision, emotional neglect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.  </a:t>
            </a:r>
            <a:r>
              <a:rPr b="1" lang="en-US" sz="2000" spc="-1" strike="noStrike">
                <a:solidFill>
                  <a:srgbClr val="3b812f"/>
                </a:solidFill>
                <a:latin typeface="Arial"/>
              </a:rPr>
              <a:t>Congenital Anoma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health problems that some children are born with that lead to de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86400" y="2209680"/>
            <a:ext cx="32004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9" dur="1" fill="hold"/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Unit 4 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Te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4.     </a:t>
            </a:r>
            <a:r>
              <a:rPr b="1" lang="en-US" sz="1700" spc="-1" strike="noStrike">
                <a:solidFill>
                  <a:srgbClr val="3b812f"/>
                </a:solidFill>
                <a:latin typeface="Arial"/>
              </a:rPr>
              <a:t>Diminished Parenting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lessened ability to parent due to stress (could come from divorce, etc.); increased emotional &amp; financial burdens as a result life’s pressur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5.    </a:t>
            </a:r>
            <a:r>
              <a:rPr b="1" lang="en-US" sz="1700" spc="-1" strike="noStrike">
                <a:solidFill>
                  <a:srgbClr val="3b812f"/>
                </a:solidFill>
                <a:latin typeface="Arial"/>
              </a:rPr>
              <a:t>Ecofeminist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feminist who believe that the domination of women is directly connected to the environmental destruction of nature – promote the interconnected web of life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6.    </a:t>
            </a:r>
            <a:r>
              <a:rPr b="1" lang="en-US" sz="1700" spc="-1" strike="noStrike">
                <a:solidFill>
                  <a:srgbClr val="3b812f"/>
                </a:solidFill>
                <a:latin typeface="Arial"/>
              </a:rPr>
              <a:t>In Vitro Fertilizat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– eggs are remove, then fertilized in lab, then returned to the women’s uteru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384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8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Unit 4 Terms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. </a:t>
            </a:r>
            <a:r>
              <a:rPr b="1" lang="en-US" sz="2400" spc="-1" strike="noStrike">
                <a:solidFill>
                  <a:srgbClr val="3b812f"/>
                </a:solidFill>
                <a:latin typeface="Arial"/>
              </a:rPr>
              <a:t>Perina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referring to the period of time immediately after bi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. </a:t>
            </a:r>
            <a:r>
              <a:rPr b="1" lang="en-US" sz="2400" spc="-1" strike="noStrike">
                <a:solidFill>
                  <a:srgbClr val="3b812f"/>
                </a:solidFill>
                <a:latin typeface="Arial"/>
              </a:rPr>
              <a:t>Persistent Pover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poverty that last for a long time rather than a short term result of cri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62320" y="3939840"/>
            <a:ext cx="4419360" cy="2190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362320" y="3657600"/>
            <a:ext cx="4419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f5f5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4:42:43Z</dcterms:created>
  <dc:creator>OCDSB User</dc:creator>
  <dc:description/>
  <dc:language>en-US</dc:language>
  <cp:lastModifiedBy>OCDSB User</cp:lastModifiedBy>
  <dcterms:modified xsi:type="dcterms:W3CDTF">2011-05-25T12:58:40Z</dcterms:modified>
  <cp:revision>16</cp:revision>
  <dc:subject/>
  <dc:title>Unit Four – Parent-Child Relationships Chapter Nine, Ten &amp; Eleven – Parenthood Today </dc:title>
</cp:coreProperties>
</file>